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3.wmf" ContentType="image/x-wmf"/>
  <Override PartName="/ppt/media/image26.jpeg" ContentType="image/jpeg"/>
  <Override PartName="/ppt/media/image23.jpeg" ContentType="image/jpeg"/>
  <Override PartName="/ppt/media/image12.png" ContentType="image/png"/>
  <Override PartName="/ppt/media/image22.wmf" ContentType="image/x-wmf"/>
  <Override PartName="/ppt/media/image20.jpeg" ContentType="image/jpeg"/>
  <Override PartName="/ppt/media/image21.wmf" ContentType="image/x-wmf"/>
  <Override PartName="/ppt/media/image18.png" ContentType="image/png"/>
  <Override PartName="/ppt/media/image28.jpeg" ContentType="image/jpeg"/>
  <Override PartName="/ppt/media/image36.jpeg" ContentType="image/jpeg"/>
  <Override PartName="/ppt/media/image10.wmf" ContentType="image/x-wmf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34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35.jpeg" ContentType="image/jpeg"/>
  <Override PartName="/ppt/media/image38.jpeg" ContentType="image/jpeg"/>
  <Override PartName="/ppt/media/image6.png" ContentType="image/png"/>
  <Override PartName="/ppt/media/image5.wmf" ContentType="image/x-wmf"/>
  <Override PartName="/ppt/media/image27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3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4145040" y="70956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684000" y="245880"/>
            <a:ext cx="2933640" cy="21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4145040" y="1420560"/>
            <a:ext cx="3170160" cy="479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4145040" y="205056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7AB5D8A-424C-44FB-A114-029D0BC7F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C90C6EC-A5AC-4ECA-A9EE-8FD3CEE4E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FB78481-BBE6-4F37-8553-623AFE768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2F896AB-50F2-4E83-8D72-EB5F7A981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23C6081-BC4A-428B-BBCA-EBCA43B14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5D9C8AF-AD80-4D5F-89A5-91E38FAC9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59D5449-EB40-4710-8CF1-FF64C5625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86140D0-D4F3-403E-899D-661192C46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8E8B037-5569-449A-8318-E4CC8FCE9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31CF284-D213-4E4C-A0C3-0A18970F7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919AF8E-D8A3-42CC-8CDD-512ED2C0F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BD3C898-8EA9-4A0A-ACB4-B0E5214B7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2193C73-200C-44FD-8C0B-4A2933F05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305824F-ADFA-4C95-8E17-0DE48D200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ADD9797-A2E6-413E-AD8F-13C360FC8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B9D5E52-95AC-4B0C-A021-A0DCC521D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F9CAF20-E46D-434F-BAB2-DF0C31700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4BEDB2B-79ED-4DF9-890B-95B351F9A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453A70D-15A0-4935-A8AE-EC2F8652B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8C99A66-3E1F-4FA0-A0E2-9D1537071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4ADE171-FBE5-4C73-BE4C-87FA99AF2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BA0E091-C882-4CB8-800E-63C85026E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4A17464-BF10-4CCD-B61B-C6129B7A1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95FFDB6-9EEB-4F1D-BF4E-F95CDBFFE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3BE2C0A-9901-4852-8F23-FCF062DAB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C0A231B-E1E7-41FA-ABEC-46A311809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8E976B2-0724-4C61-A686-F54C397ED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E1C4666-F01C-452E-BBAB-A5C5A1D87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0C1869F-0B33-445D-90CE-AC2FBBFE4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6D32E98-93AA-4807-8C1A-78ECB70A6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04CBA96-DD4C-4D7D-B82E-73ADB29FD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90DB2FA-17CA-43B6-8413-916B820DB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87EB261-55D2-4FA7-B3F1-DC48F67E5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Physics_at_NJIT"/>
          <p:cNvPicPr/>
          <p:nvPr/>
        </p:nvPicPr>
        <p:blipFill>
          <a:blip r:embed="rId2"/>
          <a:stretch/>
        </p:blipFill>
        <p:spPr>
          <a:xfrm>
            <a:off x="0" y="6095880"/>
            <a:ext cx="9186840" cy="804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4176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42DE-756E-4B53-BDF0-4679E36C232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4" name="Picture 10" descr="sun2"/>
          <p:cNvPicPr/>
          <p:nvPr/>
        </p:nvPicPr>
        <p:blipFill>
          <a:blip r:embed="rId3"/>
          <a:srcRect l="0" t="0" r="5900" b="0"/>
          <a:stretch/>
        </p:blipFill>
        <p:spPr>
          <a:xfrm>
            <a:off x="8491680" y="5578560"/>
            <a:ext cx="664920" cy="127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Physics_at_NJIT"/>
          <p:cNvPicPr/>
          <p:nvPr/>
        </p:nvPicPr>
        <p:blipFill>
          <a:blip r:embed="rId2"/>
          <a:stretch/>
        </p:blipFill>
        <p:spPr>
          <a:xfrm>
            <a:off x="0" y="6095880"/>
            <a:ext cx="9186840" cy="80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sun2"/>
          <p:cNvPicPr/>
          <p:nvPr/>
        </p:nvPicPr>
        <p:blipFill>
          <a:blip r:embed="rId3"/>
          <a:srcRect l="0" t="0" r="5900" b="0"/>
          <a:stretch/>
        </p:blipFill>
        <p:spPr>
          <a:xfrm>
            <a:off x="6727680" y="2190600"/>
            <a:ext cx="2428920" cy="4667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6CF6-5984-46C7-BCCB-591CEFE3C299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Applications of Newton’s Law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1000" y="1599840"/>
            <a:ext cx="76705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first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second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third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Frictional forc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Applications of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law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Circular Mo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651200" y="4863960"/>
            <a:ext cx="44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Monotype Corsiva"/>
              </a:rPr>
              <a:t>Isaac Newton’s work represents one of the greatest contributions to science ever made by an individual.</a:t>
            </a:r>
            <a:endParaRPr b="1" lang="en-US" sz="18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92" name="Picture 6" descr="newton"/>
          <p:cNvPicPr/>
          <p:nvPr/>
        </p:nvPicPr>
        <p:blipFill>
          <a:blip r:embed="rId1"/>
          <a:stretch/>
        </p:blipFill>
        <p:spPr>
          <a:xfrm>
            <a:off x="5702400" y="1752480"/>
            <a:ext cx="2333520" cy="312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D2A7-B8F4-47D9-8856-1CB676ACDC3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Kinetic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3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force of kinetic friction acts when the object is in mo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lthough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can vary with speed, we shall neglect any such variation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ƒ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5" name="Picture 4" descr="0516b"/>
          <p:cNvPicPr/>
          <p:nvPr/>
        </p:nvPicPr>
        <p:blipFill>
          <a:blip r:embed="rId1"/>
          <a:stretch/>
        </p:blipFill>
        <p:spPr>
          <a:xfrm>
            <a:off x="5084640" y="1447920"/>
            <a:ext cx="316548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6FCC-AAFF-4F6E-B75C-05F56C8BEFF2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plore Forces of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ary the applied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ote the value of the frictional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ompare the valu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ote what happens when the can starts to mov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9" name="Picture 4" descr="0516"/>
          <p:cNvPicPr/>
          <p:nvPr/>
        </p:nvPicPr>
        <p:blipFill>
          <a:blip r:embed="rId1"/>
          <a:stretch/>
        </p:blipFill>
        <p:spPr>
          <a:xfrm>
            <a:off x="5032440" y="1447920"/>
            <a:ext cx="326844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C855-2A83-4E92-AB54-409F0446419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Hints for 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blem-Solvin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58720" y="1231920"/>
            <a:ext cx="8331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Read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the problem carefully at least onc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raw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a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picture of the system, identify the object of primary interest, and  indicate forces with arrow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each force in the picture in a way that will bring to mind what physical quantity the label stands for (e.g., T for tension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Draw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a free-body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diagram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of the object of interest, based on the labeled picture. If additional objects are involved, draw separate free-body diagram for them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Choose a convenient coordinate system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for each objec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Apply Newton’s second law.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The x- and y-components of Newton second law should be taken from the vector equation and written individually. This often results in two equations and two unknow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Solve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for the desired unknown quantity, and substitute the number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2654280" y="5346720"/>
                <a:ext cx="16128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4838760" y="5343480"/>
                <a:ext cx="16765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7E19-D2B4-4A28-A380-EAE20C082EB1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Objects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in Equilibrium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15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Objects that are either at rest or moving with constant velocity are said to be in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equilibriu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celeration of an object can be modeled as zero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:  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Mathematically, the net force acting on the object is zer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Equivalent to the set of component equations given by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9"/>
              <p:cNvSpPr txBox="1"/>
              <p:nvPr/>
            </p:nvSpPr>
            <p:spPr>
              <a:xfrm>
                <a:off x="3701880" y="3808440"/>
                <a:ext cx="1155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0"/>
              <p:cNvSpPr txBox="1"/>
              <p:nvPr/>
            </p:nvSpPr>
            <p:spPr>
              <a:xfrm>
                <a:off x="2133720" y="2851200"/>
                <a:ext cx="939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5"/>
              <p:cNvSpPr txBox="1"/>
              <p:nvPr/>
            </p:nvSpPr>
            <p:spPr>
              <a:xfrm>
                <a:off x="2927520" y="5016600"/>
                <a:ext cx="12682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6"/>
              <p:cNvSpPr txBox="1"/>
              <p:nvPr/>
            </p:nvSpPr>
            <p:spPr>
              <a:xfrm>
                <a:off x="5119560" y="5013360"/>
                <a:ext cx="1317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6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3111-4267-4239-9BD3-A5380994FA60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546120" y="1409760"/>
            <a:ext cx="8140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What is the smallest value of the force F such that the 2.0-kg block will not slide down the wall? The coefficient of static friction between the block and the wall is 0.2. ?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 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Equilibrium, Example 1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85" name="Group 9"/>
          <p:cNvGrpSpPr/>
          <p:nvPr/>
        </p:nvGrpSpPr>
        <p:grpSpPr>
          <a:xfrm>
            <a:off x="6127920" y="3292560"/>
            <a:ext cx="1949400" cy="2171520"/>
            <a:chOff x="6127920" y="3292560"/>
            <a:chExt cx="1949400" cy="2171520"/>
          </a:xfrm>
        </p:grpSpPr>
        <p:sp>
          <p:nvSpPr>
            <p:cNvPr id="186" name="Line 10"/>
            <p:cNvSpPr/>
            <p:nvPr/>
          </p:nvSpPr>
          <p:spPr>
            <a:xfrm>
              <a:off x="8077320" y="3292560"/>
              <a:ext cx="0" cy="21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7320240" y="3872880"/>
              <a:ext cx="724680" cy="1085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188" name="Line 12"/>
            <p:cNvSpPr/>
            <p:nvPr/>
          </p:nvSpPr>
          <p:spPr>
            <a:xfrm>
              <a:off x="6127920" y="4453200"/>
              <a:ext cx="1207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189" name="Text Box 13"/>
          <p:cNvSpPr/>
          <p:nvPr/>
        </p:nvSpPr>
        <p:spPr>
          <a:xfrm>
            <a:off x="6192720" y="3838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pSp>
        <p:nvGrpSpPr>
          <p:cNvPr id="190" name="Group 81"/>
          <p:cNvGrpSpPr/>
          <p:nvPr/>
        </p:nvGrpSpPr>
        <p:grpSpPr>
          <a:xfrm>
            <a:off x="1765440" y="3381480"/>
            <a:ext cx="2388600" cy="2244600"/>
            <a:chOff x="1765440" y="3381480"/>
            <a:chExt cx="2388600" cy="2244600"/>
          </a:xfrm>
        </p:grpSpPr>
        <p:grpSp>
          <p:nvGrpSpPr>
            <p:cNvPr id="191" name="Group 70"/>
            <p:cNvGrpSpPr/>
            <p:nvPr/>
          </p:nvGrpSpPr>
          <p:grpSpPr>
            <a:xfrm>
              <a:off x="1765440" y="3381480"/>
              <a:ext cx="2388600" cy="2237760"/>
              <a:chOff x="1765440" y="3381480"/>
              <a:chExt cx="2388600" cy="2237760"/>
            </a:xfrm>
          </p:grpSpPr>
          <p:sp>
            <p:nvSpPr>
              <p:cNvPr id="192" name="Line 71"/>
              <p:cNvSpPr/>
              <p:nvPr/>
            </p:nvSpPr>
            <p:spPr>
              <a:xfrm>
                <a:off x="3321000" y="3381480"/>
                <a:ext cx="0" cy="217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3" name="Rectangle 72"/>
              <p:cNvSpPr/>
              <p:nvPr/>
            </p:nvSpPr>
            <p:spPr>
              <a:xfrm>
                <a:off x="2563920" y="3962520"/>
                <a:ext cx="725040" cy="10857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4" name="Text Box 73"/>
              <p:cNvSpPr/>
              <p:nvPr/>
            </p:nvSpPr>
            <p:spPr>
              <a:xfrm>
                <a:off x="2290320" y="5159520"/>
                <a:ext cx="58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mg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5" name="Line 74"/>
              <p:cNvSpPr/>
              <p:nvPr/>
            </p:nvSpPr>
            <p:spPr>
              <a:xfrm>
                <a:off x="1765440" y="4503600"/>
                <a:ext cx="12078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6" name="Text Box 75"/>
              <p:cNvSpPr/>
              <p:nvPr/>
            </p:nvSpPr>
            <p:spPr>
              <a:xfrm>
                <a:off x="1787760" y="3914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7" name="Text Box 76"/>
              <p:cNvSpPr/>
              <p:nvPr/>
            </p:nvSpPr>
            <p:spPr>
              <a:xfrm>
                <a:off x="2468160" y="33814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8" name="Line 77"/>
              <p:cNvSpPr/>
              <p:nvPr/>
            </p:nvSpPr>
            <p:spPr>
              <a:xfrm>
                <a:off x="2978280" y="3390840"/>
                <a:ext cx="0" cy="1130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9" name="Line 78"/>
              <p:cNvSpPr/>
              <p:nvPr/>
            </p:nvSpPr>
            <p:spPr>
              <a:xfrm>
                <a:off x="2946240" y="4503600"/>
                <a:ext cx="120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200" name="Text Box 79"/>
              <p:cNvSpPr/>
              <p:nvPr/>
            </p:nvSpPr>
            <p:spPr>
              <a:xfrm>
                <a:off x="3633480" y="39276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Line 80"/>
            <p:cNvSpPr/>
            <p:nvPr/>
          </p:nvSpPr>
          <p:spPr>
            <a:xfrm>
              <a:off x="2978280" y="4495680"/>
              <a:ext cx="0" cy="11304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2010-099D-4546-A283-86487F1BC358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Accelerating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f an object that can be modeled as a particle experiences an acceleration, there must be a nonzero net force acting on i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raw a free-body diagra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pply Newton’s Second Law in component for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3240000" y="3922560"/>
                <a:ext cx="19116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5"/>
              <p:cNvSpPr txBox="1"/>
              <p:nvPr/>
            </p:nvSpPr>
            <p:spPr>
              <a:xfrm>
                <a:off x="1585800" y="4876920"/>
                <a:ext cx="19195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4332240" y="4835520"/>
                <a:ext cx="20242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FBF4-0998-4700-A02D-802F702446D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Inclined Pla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409104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Suppose a block with a mass of 2.50 kg is resting on a ramp. If the coefficient of static friction between the block and ramp is 0.350, what maximum angle can the ramp make with the horizontal before the block starts to slip down?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11" name="Picture 4" descr="0518"/>
          <p:cNvPicPr/>
          <p:nvPr/>
        </p:nvPicPr>
        <p:blipFill>
          <a:blip r:embed="rId1"/>
          <a:stretch/>
        </p:blipFill>
        <p:spPr>
          <a:xfrm>
            <a:off x="4794120" y="1474920"/>
            <a:ext cx="415944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8B71-842C-43A4-8B76-6A36DD4ACC00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Newton 2nd law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Then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So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14" name="Picture 4" descr="0518"/>
          <p:cNvPicPr/>
          <p:nvPr/>
        </p:nvPicPr>
        <p:blipFill>
          <a:blip r:embed="rId1"/>
          <a:stretch/>
        </p:blipFill>
        <p:spPr>
          <a:xfrm>
            <a:off x="4678200" y="965160"/>
            <a:ext cx="4313520" cy="3444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816120" y="2055960"/>
                <a:ext cx="33717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7"/>
              <p:cNvSpPr txBox="1"/>
              <p:nvPr/>
            </p:nvSpPr>
            <p:spPr>
              <a:xfrm>
                <a:off x="1898640" y="3378240"/>
                <a:ext cx="1792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8"/>
              <p:cNvSpPr txBox="1"/>
              <p:nvPr/>
            </p:nvSpPr>
            <p:spPr>
              <a:xfrm>
                <a:off x="752400" y="3860640"/>
                <a:ext cx="40370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1565280" y="4570560"/>
                <a:ext cx="24084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0"/>
              <p:cNvSpPr txBox="1"/>
              <p:nvPr/>
            </p:nvSpPr>
            <p:spPr>
              <a:xfrm>
                <a:off x="1204920" y="5141880"/>
                <a:ext cx="3103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Inclined Pla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BEA4-1F13-4BD6-90D9-50F621F31221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Multiple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79000" y="3603240"/>
            <a:ext cx="84582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A block of mass m1 on a rough, horizontal surface is connected to a ball of mass m2 by a lightweight cord over a lightweight, frictionless pulley as shown in figure. A force of magnitude F at an angle </a:t>
            </a:r>
            <a:r>
              <a:rPr b="0" i="1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r>
              <a:rPr b="1" i="1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with the horizontal is applied to the block as shown and the block slides to the right. The coefficient of kinetic friction between the block and surface is </a:t>
            </a:r>
            <a:r>
              <a:rPr b="0" i="1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μ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k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  <a:ea typeface="宋体"/>
              </a:rPr>
              <a:t>.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Find the magnitude of acceleration of the two object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4" name="Picture 4" descr="0520"/>
          <p:cNvPicPr/>
          <p:nvPr/>
        </p:nvPicPr>
        <p:blipFill>
          <a:blip r:embed="rId1"/>
          <a:stretch/>
        </p:blipFill>
        <p:spPr>
          <a:xfrm>
            <a:off x="1522440" y="1028880"/>
            <a:ext cx="563076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99F9-ABC4-479F-B4FB-0AD849F08B99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Multiple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7" name="Picture 4" descr="0520"/>
          <p:cNvPicPr/>
          <p:nvPr/>
        </p:nvPicPr>
        <p:blipFill>
          <a:blip r:embed="rId1"/>
          <a:stretch/>
        </p:blipFill>
        <p:spPr>
          <a:xfrm>
            <a:off x="5046840" y="1665360"/>
            <a:ext cx="3805200" cy="1658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8680" y="1345680"/>
            <a:ext cx="370836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m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1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: 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m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5"/>
              <p:cNvSpPr txBox="1"/>
              <p:nvPr/>
            </p:nvSpPr>
            <p:spPr>
              <a:xfrm>
                <a:off x="1517760" y="2573280"/>
                <a:ext cx="34448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1557360" y="1467000"/>
                <a:ext cx="40496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1644480" y="3624120"/>
                <a:ext cx="20480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9"/>
              <p:cNvSpPr txBox="1"/>
              <p:nvPr/>
            </p:nvSpPr>
            <p:spPr>
              <a:xfrm>
                <a:off x="1539720" y="4044960"/>
                <a:ext cx="33753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0"/>
              <p:cNvSpPr txBox="1"/>
              <p:nvPr/>
            </p:nvSpPr>
            <p:spPr>
              <a:xfrm>
                <a:off x="1238400" y="4680000"/>
                <a:ext cx="509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1"/>
              <p:cNvSpPr txBox="1"/>
              <p:nvPr/>
            </p:nvSpPr>
            <p:spPr>
              <a:xfrm>
                <a:off x="1446120" y="5207040"/>
                <a:ext cx="4375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2"/>
              <p:cNvSpPr txBox="1"/>
              <p:nvPr/>
            </p:nvSpPr>
            <p:spPr>
              <a:xfrm>
                <a:off x="1712880" y="3166920"/>
                <a:ext cx="1630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118B-3898-4BF6-8AB5-FA83FF1B30F0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7760" y="19807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Newton’s Law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52560" y="3124080"/>
            <a:ext cx="72914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If no n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cts on a body, then the body’s velocity cannot chang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 n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on a body is equal to the product of the body’s mass and acceleratio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When two bodies interact,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on the bodies from each other are always equal in magnitude and opposite in directio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6" name="Picture 4" descr="newton"/>
          <p:cNvPicPr/>
          <p:nvPr/>
        </p:nvPicPr>
        <p:blipFill>
          <a:blip r:embed="rId1"/>
          <a:stretch/>
        </p:blipFill>
        <p:spPr>
          <a:xfrm>
            <a:off x="0" y="0"/>
            <a:ext cx="2300400" cy="29955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3124080" y="0"/>
            <a:ext cx="5791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Force is a vector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Unit of force in S.I.: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3340080" y="1219320"/>
            <a:ext cx="2355840" cy="93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D01B-55AB-495C-B7E0-EFA1B7993027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37" name="Picture 2" descr="0602"/>
          <p:cNvPicPr/>
          <p:nvPr/>
        </p:nvPicPr>
        <p:blipFill>
          <a:blip r:embed="rId1"/>
          <a:stretch/>
        </p:blipFill>
        <p:spPr>
          <a:xfrm>
            <a:off x="5202360" y="1260360"/>
            <a:ext cx="2913120" cy="33465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2194560" y="4038480"/>
            <a:ext cx="42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Uniform circular mo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-27360" y="4952880"/>
            <a:ext cx="46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Comic Sans MS"/>
              </a:rPr>
              <a:t>Constant speed, or,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Comic Sans MS"/>
              </a:rPr>
              <a:t>constant magnitude of velocity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233440" y="4572000"/>
            <a:ext cx="1524240" cy="0"/>
          </a:xfrm>
          <a:prstGeom prst="line">
            <a:avLst/>
          </a:prstGeom>
          <a:ln w="57240">
            <a:solidFill>
              <a:srgbClr val="dc0c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1" name="Line 6"/>
          <p:cNvSpPr/>
          <p:nvPr/>
        </p:nvSpPr>
        <p:spPr>
          <a:xfrm flipH="1">
            <a:off x="2462040" y="4572000"/>
            <a:ext cx="152640" cy="304920"/>
          </a:xfrm>
          <a:prstGeom prst="line">
            <a:avLst/>
          </a:prstGeom>
          <a:ln w="936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3859200" y="4572000"/>
            <a:ext cx="2514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5638680" y="457200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4717440" y="4952880"/>
            <a:ext cx="444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otion along a circle: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anging direction of velocity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45" name="Picture 10" descr="0601"/>
          <p:cNvPicPr/>
          <p:nvPr/>
        </p:nvPicPr>
        <p:blipFill>
          <a:blip r:embed="rId2"/>
          <a:stretch/>
        </p:blipFill>
        <p:spPr>
          <a:xfrm>
            <a:off x="1122480" y="1244520"/>
            <a:ext cx="2859120" cy="28735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1"/>
          <p:cNvSpPr/>
          <p:nvPr/>
        </p:nvSpPr>
        <p:spPr>
          <a:xfrm>
            <a:off x="366840" y="96840"/>
            <a:ext cx="848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Uniform Circular Motion: Defini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 flipV="1">
            <a:off x="6616800" y="1765440"/>
            <a:ext cx="1041480" cy="87624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7658280" y="1765440"/>
            <a:ext cx="457200" cy="533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AE2E-7174-4C56-9672-BDA53581AAD1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0" y="287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Uniform Circular Motion: Observation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49120" y="1387440"/>
            <a:ext cx="506124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Object moving along a curved path with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onstant speed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Magnitud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 of velocity: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same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Direction of velocity: changin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Velocity    : changin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Acceleration is NOT zero!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Net force acting on an object is NOT zero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Centripetal forc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” 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52" name="Picture 4" descr="FG06_12"/>
          <p:cNvPicPr/>
          <p:nvPr/>
        </p:nvPicPr>
        <p:blipFill>
          <a:blip r:embed="rId1"/>
          <a:stretch/>
        </p:blipFill>
        <p:spPr>
          <a:xfrm>
            <a:off x="5410080" y="1544760"/>
            <a:ext cx="3508560" cy="3217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5956200" y="5038560"/>
                <a:ext cx="21988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2197080" y="3568680"/>
                <a:ext cx="353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544A-BA16-4578-9F30-63D9CA9208B9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03280" y="1374840"/>
            <a:ext cx="478152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entripetal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46160" y="133200"/>
            <a:ext cx="87786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宋体"/>
              </a:rPr>
              <a:t>Uniform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Circular Mo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023840" y="2649600"/>
                <a:ext cx="289728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so,   </m:t>
                        </m:r>
                        <m:r>
                          <m:t xml:space="preserve">Δ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Δ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r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5"/>
          <p:cNvSpPr/>
          <p:nvPr/>
        </p:nvSpPr>
        <p:spPr>
          <a:xfrm>
            <a:off x="6388200" y="1785960"/>
            <a:ext cx="9360" cy="7542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 flipV="1">
            <a:off x="5373720" y="6219720"/>
            <a:ext cx="574560" cy="370080"/>
          </a:xfrm>
          <a:prstGeom prst="line">
            <a:avLst/>
          </a:prstGeom>
          <a:ln w="34920">
            <a:solidFill>
              <a:srgbClr val="ff0000"/>
            </a:solidFill>
            <a:miter/>
            <a:headEnd len="sm" type="oval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5386320" y="6602400"/>
            <a:ext cx="573120" cy="370080"/>
          </a:xfrm>
          <a:prstGeom prst="line">
            <a:avLst/>
          </a:prstGeom>
          <a:ln w="34920">
            <a:solidFill>
              <a:srgbClr val="ff0000"/>
            </a:solidFill>
            <a:miter/>
            <a:headEnd len="sm" type="oval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2" name="Oval 8"/>
          <p:cNvSpPr/>
          <p:nvPr/>
        </p:nvSpPr>
        <p:spPr>
          <a:xfrm>
            <a:off x="4853160" y="2957400"/>
            <a:ext cx="3078000" cy="2908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 flipV="1">
            <a:off x="6399360" y="2655360"/>
            <a:ext cx="0" cy="341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4681440" y="4417920"/>
            <a:ext cx="375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 flipV="1">
            <a:off x="5580000" y="2779560"/>
            <a:ext cx="574560" cy="370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7211880" y="3147840"/>
            <a:ext cx="574920" cy="370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6354720" y="4375080"/>
            <a:ext cx="57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8093160" y="4522680"/>
            <a:ext cx="5302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6399360" y="2455920"/>
            <a:ext cx="809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5586480" y="3632040"/>
            <a:ext cx="471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6945480" y="335592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2" name="Line 18"/>
          <p:cNvSpPr/>
          <p:nvPr/>
        </p:nvSpPr>
        <p:spPr>
          <a:xfrm flipH="1" flipV="1">
            <a:off x="5578560" y="3143160"/>
            <a:ext cx="822240" cy="12700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5145120" y="26622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7095960" y="2570040"/>
            <a:ext cx="4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5" name="Oval 21"/>
          <p:cNvSpPr/>
          <p:nvPr/>
        </p:nvSpPr>
        <p:spPr>
          <a:xfrm>
            <a:off x="5527800" y="3079800"/>
            <a:ext cx="128520" cy="131760"/>
          </a:xfrm>
          <a:prstGeom prst="ellipse">
            <a:avLst/>
          </a:prstGeom>
          <a:solidFill>
            <a:srgbClr val="0099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6" name="Oval 22"/>
          <p:cNvSpPr/>
          <p:nvPr/>
        </p:nvSpPr>
        <p:spPr>
          <a:xfrm>
            <a:off x="7118280" y="3079800"/>
            <a:ext cx="128520" cy="131760"/>
          </a:xfrm>
          <a:prstGeom prst="ellipse">
            <a:avLst/>
          </a:prstGeom>
          <a:solidFill>
            <a:srgbClr val="0099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5472000" y="2400480"/>
            <a:ext cx="4716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8" name="Line 24"/>
          <p:cNvSpPr/>
          <p:nvPr/>
        </p:nvSpPr>
        <p:spPr>
          <a:xfrm flipV="1">
            <a:off x="6388200" y="3187800"/>
            <a:ext cx="787320" cy="121896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9" name="Text Box 25"/>
          <p:cNvSpPr/>
          <p:nvPr/>
        </p:nvSpPr>
        <p:spPr>
          <a:xfrm>
            <a:off x="6792840" y="3683160"/>
            <a:ext cx="4716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7377120" y="2781360"/>
            <a:ext cx="471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1" name="Line 27"/>
          <p:cNvSpPr/>
          <p:nvPr/>
        </p:nvSpPr>
        <p:spPr>
          <a:xfrm>
            <a:off x="5600880" y="3174840"/>
            <a:ext cx="1549080" cy="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2" name="Text Box 28"/>
          <p:cNvSpPr/>
          <p:nvPr/>
        </p:nvSpPr>
        <p:spPr>
          <a:xfrm>
            <a:off x="6132600" y="3187800"/>
            <a:ext cx="674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3" name="Text Box 29"/>
          <p:cNvSpPr/>
          <p:nvPr/>
        </p:nvSpPr>
        <p:spPr>
          <a:xfrm>
            <a:off x="5573880" y="146052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4" name="Text Box 30"/>
          <p:cNvSpPr/>
          <p:nvPr/>
        </p:nvSpPr>
        <p:spPr>
          <a:xfrm>
            <a:off x="5624640" y="219708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5" name="Text Box 31"/>
          <p:cNvSpPr/>
          <p:nvPr/>
        </p:nvSpPr>
        <p:spPr>
          <a:xfrm>
            <a:off x="6475320" y="1841400"/>
            <a:ext cx="1881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 = 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- 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32"/>
              <p:cNvSpPr txBox="1"/>
              <p:nvPr/>
            </p:nvSpPr>
            <p:spPr>
              <a:xfrm>
                <a:off x="2811600" y="1855800"/>
                <a:ext cx="18619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3"/>
              <p:cNvSpPr txBox="1"/>
              <p:nvPr/>
            </p:nvSpPr>
            <p:spPr>
              <a:xfrm>
                <a:off x="1031760" y="2089080"/>
                <a:ext cx="12556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2362 -0.15 E">
                                      <p:cBhvr>
                                        <p:cTn id="161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037 L -0.15695 -0.14259 E">
                                      <p:cBhvr>
                                        <p:cTn id="165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2866-73F6-474D-8F78-1A31B46B0BD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Uniform Circular Mo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9440" y="1206360"/>
            <a:ext cx="5295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elocity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constant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 direction of the velocity is tangent to the circ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cceleration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ed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eriod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ime interval required for one complete revolution of the partic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6419880" y="2362320"/>
                <a:ext cx="495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2" name="Picture 5" descr="F04_18"/>
          <p:cNvPicPr/>
          <p:nvPr/>
        </p:nvPicPr>
        <p:blipFill>
          <a:blip r:embed="rId1"/>
          <a:stretch/>
        </p:blipFill>
        <p:spPr>
          <a:xfrm>
            <a:off x="5489640" y="1523880"/>
            <a:ext cx="3311640" cy="359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3225960" y="2828880"/>
                <a:ext cx="1015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7"/>
              <p:cNvSpPr txBox="1"/>
              <p:nvPr/>
            </p:nvSpPr>
            <p:spPr>
              <a:xfrm>
                <a:off x="5370480" y="5229360"/>
                <a:ext cx="10954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r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8"/>
              <p:cNvSpPr txBox="1"/>
              <p:nvPr/>
            </p:nvSpPr>
            <p:spPr>
              <a:xfrm>
                <a:off x="6021360" y="1398600"/>
                <a:ext cx="1063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6560-1BF6-4038-A5C7-6B475F254675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Centripetal Forc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9440" y="1206000"/>
            <a:ext cx="5410440" cy="49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cceleration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ion: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orce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rt from Newton’s 2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Law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ion: 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6419880" y="2362320"/>
                <a:ext cx="495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00" name="Picture 5" descr="F04_18"/>
          <p:cNvPicPr/>
          <p:nvPr/>
        </p:nvPicPr>
        <p:blipFill>
          <a:blip r:embed="rId1"/>
          <a:stretch/>
        </p:blipFill>
        <p:spPr>
          <a:xfrm>
            <a:off x="5489640" y="1523880"/>
            <a:ext cx="3311640" cy="359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1" name="Object 6"/>
              <p:cNvSpPr txBox="1"/>
              <p:nvPr/>
            </p:nvSpPr>
            <p:spPr>
              <a:xfrm>
                <a:off x="3314880" y="1228680"/>
                <a:ext cx="1015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3095640" y="3708360"/>
                <a:ext cx="12524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8"/>
              <p:cNvSpPr txBox="1"/>
              <p:nvPr/>
            </p:nvSpPr>
            <p:spPr>
              <a:xfrm>
                <a:off x="5881680" y="1398600"/>
                <a:ext cx="1063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9"/>
              <p:cNvSpPr txBox="1"/>
              <p:nvPr/>
            </p:nvSpPr>
            <p:spPr>
              <a:xfrm>
                <a:off x="2895480" y="4361040"/>
                <a:ext cx="208764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Line 10"/>
          <p:cNvSpPr/>
          <p:nvPr/>
        </p:nvSpPr>
        <p:spPr>
          <a:xfrm flipV="1">
            <a:off x="6858000" y="3565080"/>
            <a:ext cx="380880" cy="6858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06" name="Object 11"/>
          <p:cNvGraphicFramePr/>
          <p:nvPr/>
        </p:nvGraphicFramePr>
        <p:xfrm>
          <a:off x="7086600" y="3718080"/>
          <a:ext cx="679320" cy="59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3718080"/>
                    <a:ext cx="67932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Line 12"/>
          <p:cNvSpPr/>
          <p:nvPr/>
        </p:nvSpPr>
        <p:spPr>
          <a:xfrm>
            <a:off x="6832440" y="2282760"/>
            <a:ext cx="381240" cy="6858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09" name="Object 13"/>
          <p:cNvGraphicFramePr/>
          <p:nvPr/>
        </p:nvGraphicFramePr>
        <p:xfrm>
          <a:off x="6451560" y="2587680"/>
          <a:ext cx="679320" cy="592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0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51560" y="2587680"/>
                    <a:ext cx="679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Line 14"/>
          <p:cNvSpPr/>
          <p:nvPr/>
        </p:nvSpPr>
        <p:spPr>
          <a:xfrm flipH="1">
            <a:off x="7709040" y="3286080"/>
            <a:ext cx="799920" cy="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12" name="Object 15"/>
          <p:cNvGraphicFramePr/>
          <p:nvPr/>
        </p:nvGraphicFramePr>
        <p:xfrm>
          <a:off x="7632720" y="2600280"/>
          <a:ext cx="679320" cy="59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3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720" y="2600280"/>
                    <a:ext cx="679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4" name="Object 16"/>
              <p:cNvSpPr txBox="1"/>
              <p:nvPr/>
            </p:nvSpPr>
            <p:spPr>
              <a:xfrm>
                <a:off x="7080120" y="1355760"/>
                <a:ext cx="12826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7"/>
              <p:cNvSpPr txBox="1"/>
              <p:nvPr/>
            </p:nvSpPr>
            <p:spPr>
              <a:xfrm>
                <a:off x="6397560" y="5126040"/>
                <a:ext cx="1251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1568-2F1A-4066-A1B2-1B98F261210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What provides Centripetal Force ?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9440" y="127008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is not a new kind of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refers to any force that keeps an object following a circular path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is a combination of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Gravitational force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 downward to the groun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ormal forc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perpendicular to the surfa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ension forc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along the cord and away from objec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tic friction force: 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imes New Roman"/>
              </a:rPr>
              <a:t>s</a:t>
            </a:r>
            <a:r>
              <a:rPr b="0" i="1" lang="en-US" sz="2400" spc="-1" strike="noStrike" baseline="30000">
                <a:solidFill>
                  <a:srgbClr val="000066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ahoma"/>
              </a:rPr>
              <a:t>µ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imes New Roman"/>
                <a:ea typeface="Tahoma"/>
              </a:rPr>
              <a:t>s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6472080" y="2278080"/>
                <a:ext cx="19432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6DAD-68B3-4766-A444-B381EB7FFD48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6170760" y="4368960"/>
            <a:ext cx="3571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What provides Centripetal Force ?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1353960" y="4265640"/>
                <a:ext cx="189396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5"/>
              <p:cNvSpPr txBox="1"/>
              <p:nvPr/>
            </p:nvSpPr>
            <p:spPr>
              <a:xfrm>
                <a:off x="5045040" y="1647720"/>
                <a:ext cx="300348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5" name="Group 6"/>
          <p:cNvGrpSpPr/>
          <p:nvPr/>
        </p:nvGrpSpPr>
        <p:grpSpPr>
          <a:xfrm>
            <a:off x="5219280" y="2209320"/>
            <a:ext cx="2838600" cy="3189240"/>
            <a:chOff x="5219280" y="2209320"/>
            <a:chExt cx="2838600" cy="3189240"/>
          </a:xfrm>
        </p:grpSpPr>
        <p:sp>
          <p:nvSpPr>
            <p:cNvPr id="326" name="AutoShape 7"/>
            <p:cNvSpPr/>
            <p:nvPr/>
          </p:nvSpPr>
          <p:spPr>
            <a:xfrm rot="10800000">
              <a:off x="5219280" y="2209320"/>
              <a:ext cx="2838600" cy="3189240"/>
            </a:xfrm>
            <a:custGeom>
              <a:avLst/>
              <a:gdLst>
                <a:gd name="textAreaLeft" fmla="*/ 50760 w 2838600"/>
                <a:gd name="textAreaRight" fmla="*/ 2787840 w 2838600"/>
                <a:gd name="textAreaTop" fmla="*/ 0 h 3189240"/>
                <a:gd name="textAreaBottom" fmla="*/ 1954080 h 318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9" y="10620"/>
                  </a:moveTo>
                  <a:cubicBezTo>
                    <a:pt x="1727" y="5625"/>
                    <a:pt x="5804" y="1628"/>
                    <a:pt x="10800" y="1628"/>
                  </a:cubicBezTo>
                  <a:cubicBezTo>
                    <a:pt x="15795" y="1628"/>
                    <a:pt x="19872" y="5625"/>
                    <a:pt x="19970" y="10620"/>
                  </a:cubicBezTo>
                  <a:lnTo>
                    <a:pt x="21597" y="10588"/>
                  </a:lnTo>
                  <a:cubicBezTo>
                    <a:pt x="21482" y="4707"/>
                    <a:pt x="16682" y="0"/>
                    <a:pt x="10799" y="0"/>
                  </a:cubicBezTo>
                  <a:cubicBezTo>
                    <a:pt x="4917" y="0"/>
                    <a:pt x="117" y="4707"/>
                    <a:pt x="2" y="10588"/>
                  </a:cubicBezTo>
                  <a:lnTo>
                    <a:pt x="1629" y="1062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27" name="Oval 8"/>
            <p:cNvSpPr/>
            <p:nvPr/>
          </p:nvSpPr>
          <p:spPr>
            <a:xfrm>
              <a:off x="6553080" y="500364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28" name="Line 9"/>
          <p:cNvSpPr/>
          <p:nvPr/>
        </p:nvSpPr>
        <p:spPr>
          <a:xfrm>
            <a:off x="6629400" y="5092560"/>
            <a:ext cx="0" cy="774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6780240" y="5435640"/>
            <a:ext cx="674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g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0" name="Line 11"/>
          <p:cNvSpPr/>
          <p:nvPr/>
        </p:nvSpPr>
        <p:spPr>
          <a:xfrm flipV="1">
            <a:off x="6629400" y="4368960"/>
            <a:ext cx="12600" cy="72864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6742080" y="3898800"/>
            <a:ext cx="4208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2" name="Line 13"/>
          <p:cNvSpPr/>
          <p:nvPr/>
        </p:nvSpPr>
        <p:spPr>
          <a:xfrm flipV="1">
            <a:off x="6502320" y="4280040"/>
            <a:ext cx="0" cy="660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33" name="Picture 14" descr="0601"/>
          <p:cNvPicPr/>
          <p:nvPr/>
        </p:nvPicPr>
        <p:blipFill>
          <a:blip r:embed="rId1"/>
          <a:stretch/>
        </p:blipFill>
        <p:spPr>
          <a:xfrm>
            <a:off x="1065240" y="1434960"/>
            <a:ext cx="2530440" cy="254484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1"/>
          <p:cNvGrpSpPr/>
          <p:nvPr/>
        </p:nvGrpSpPr>
        <p:grpSpPr>
          <a:xfrm>
            <a:off x="6642000" y="4541760"/>
            <a:ext cx="533520" cy="530280"/>
            <a:chOff x="6642000" y="4541760"/>
            <a:chExt cx="533520" cy="530280"/>
          </a:xfrm>
        </p:grpSpPr>
        <p:sp>
          <p:nvSpPr>
            <p:cNvPr id="335" name="Line 11"/>
            <p:cNvSpPr/>
            <p:nvPr/>
          </p:nvSpPr>
          <p:spPr>
            <a:xfrm>
              <a:off x="6642000" y="5072040"/>
              <a:ext cx="533520" cy="0"/>
            </a:xfrm>
            <a:prstGeom prst="line">
              <a:avLst/>
            </a:prstGeom>
            <a:ln w="38160">
              <a:solidFill>
                <a:srgbClr val="5c5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36" name="Text Box 2"/>
            <p:cNvSpPr/>
            <p:nvPr/>
          </p:nvSpPr>
          <p:spPr>
            <a:xfrm>
              <a:off x="6766560" y="4541760"/>
              <a:ext cx="3574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v</a:t>
              </a:r>
              <a:endParaRPr b="1" lang="en-US" sz="28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37" name="Line 11"/>
          <p:cNvSpPr/>
          <p:nvPr/>
        </p:nvSpPr>
        <p:spPr>
          <a:xfrm flipV="1">
            <a:off x="6629400" y="3898800"/>
            <a:ext cx="0" cy="118584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FC5D-1534-4C63-AC23-1522440F56C6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17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blem Solving Strategy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raw a free body diagra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, showing and labeling all the forces acting on the object(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oose a coordinate syste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that has one axis perpendicular to the circular path and the other axis tangent to the circular path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Find the net force toward the center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f the circular path (this is the force that causes the centripetal acceleration, F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Use Newton’s second law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e directions will be radial, normal, and tangentia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e acceleration in the radial direction will be the centripetal acceleratio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Solve for the unknown(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58CF-B752-4A47-A256-BE4E6F4A243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42" name="Picture 2" descr="0603b"/>
          <p:cNvPicPr/>
          <p:nvPr/>
        </p:nvPicPr>
        <p:blipFill>
          <a:blip r:embed="rId1"/>
          <a:srcRect l="0" t="0" r="0" b="12947"/>
          <a:stretch/>
        </p:blipFill>
        <p:spPr>
          <a:xfrm>
            <a:off x="3505320" y="2922480"/>
            <a:ext cx="1666800" cy="31384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The Conical Pendulum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34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 small ball of mas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5 kg is suspended from a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tring of length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5 m.  The ball revolves with constant speed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in a horizontal circle of radiu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2 m. Find an expression for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and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a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851040" y="3581280"/>
            <a:ext cx="1752480" cy="1815840"/>
            <a:chOff x="851040" y="3581280"/>
            <a:chExt cx="1752480" cy="1815840"/>
          </a:xfrm>
        </p:grpSpPr>
        <p:sp>
          <p:nvSpPr>
            <p:cNvPr id="346" name="Oval 6"/>
            <p:cNvSpPr/>
            <p:nvPr/>
          </p:nvSpPr>
          <p:spPr>
            <a:xfrm>
              <a:off x="1028880" y="4749480"/>
              <a:ext cx="1574640" cy="64764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7" name="Rectangle 7"/>
            <p:cNvSpPr/>
            <p:nvPr/>
          </p:nvSpPr>
          <p:spPr>
            <a:xfrm>
              <a:off x="1257480" y="3581280"/>
              <a:ext cx="1130400" cy="203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8" name="Oval 8"/>
            <p:cNvSpPr/>
            <p:nvPr/>
          </p:nvSpPr>
          <p:spPr>
            <a:xfrm>
              <a:off x="851040" y="4927320"/>
              <a:ext cx="330120" cy="330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9" name="Line 9"/>
            <p:cNvSpPr/>
            <p:nvPr/>
          </p:nvSpPr>
          <p:spPr>
            <a:xfrm flipH="1">
              <a:off x="1091880" y="3784320"/>
              <a:ext cx="736920" cy="116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50" name="Line 10"/>
          <p:cNvSpPr/>
          <p:nvPr/>
        </p:nvSpPr>
        <p:spPr>
          <a:xfrm>
            <a:off x="1015920" y="5105520"/>
            <a:ext cx="0" cy="635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V="1">
            <a:off x="1015920" y="4470120"/>
            <a:ext cx="393840" cy="647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765000" y="5603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1052640" y="409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4" name="Line 14"/>
          <p:cNvSpPr/>
          <p:nvPr/>
        </p:nvSpPr>
        <p:spPr>
          <a:xfrm>
            <a:off x="1816200" y="3772080"/>
            <a:ext cx="0" cy="12952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1519560" y="400860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7104-C4B9-44C3-9ABA-91ECECFEA639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57" name="Picture 2" descr="0603b"/>
          <p:cNvPicPr/>
          <p:nvPr/>
        </p:nvPicPr>
        <p:blipFill>
          <a:blip r:embed="rId1"/>
          <a:stretch/>
        </p:blipFill>
        <p:spPr>
          <a:xfrm>
            <a:off x="457200" y="1969920"/>
            <a:ext cx="1666800" cy="36054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The Conical Pendulum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4"/>
              <p:cNvSpPr txBox="1"/>
              <p:nvPr/>
            </p:nvSpPr>
            <p:spPr>
              <a:xfrm>
                <a:off x="2382840" y="1905120"/>
                <a:ext cx="3009960" cy="33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5"/>
              <p:cNvSpPr txBox="1"/>
              <p:nvPr/>
            </p:nvSpPr>
            <p:spPr>
              <a:xfrm>
                <a:off x="5641920" y="1836720"/>
                <a:ext cx="3062520" cy="35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m/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1" name="Text Box 6"/>
          <p:cNvSpPr/>
          <p:nvPr/>
        </p:nvSpPr>
        <p:spPr>
          <a:xfrm>
            <a:off x="593640" y="1278000"/>
            <a:ext cx="31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nd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v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nd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a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69C2-8659-4EEC-BE93-312A05D64E03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537000" y="3200400"/>
            <a:ext cx="2057400" cy="1222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Forc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1280" y="1447920"/>
            <a:ext cx="46609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The measure of interaction betwee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two objec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Vector quantity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: has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magnitude and directio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y be 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ontact forc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r 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field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Particular forc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Gravitation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Friction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Tension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Norm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Spring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5823000" y="4165560"/>
            <a:ext cx="2933640" cy="1781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7715160" y="190440"/>
            <a:ext cx="1428840" cy="1943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bongi"/>
          <p:cNvPicPr/>
          <p:nvPr/>
        </p:nvPicPr>
        <p:blipFill>
          <a:blip r:embed="rId4"/>
          <a:stretch/>
        </p:blipFill>
        <p:spPr>
          <a:xfrm>
            <a:off x="6121440" y="2251080"/>
            <a:ext cx="2211480" cy="1735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TN00332_"/>
          <p:cNvPicPr/>
          <p:nvPr/>
        </p:nvPicPr>
        <p:blipFill>
          <a:blip r:embed="rId5"/>
          <a:stretch/>
        </p:blipFill>
        <p:spPr>
          <a:xfrm>
            <a:off x="76320" y="76320"/>
            <a:ext cx="2293920" cy="1139760"/>
          </a:xfrm>
          <a:prstGeom prst="rect">
            <a:avLst/>
          </a:prstGeom>
          <a:ln w="0">
            <a:noFill/>
          </a:ln>
        </p:spPr>
      </p:pic>
      <p:sp>
        <p:nvSpPr>
          <p:cNvPr id="107" name="Line 9"/>
          <p:cNvSpPr/>
          <p:nvPr/>
        </p:nvSpPr>
        <p:spPr>
          <a:xfrm>
            <a:off x="7448400" y="2832120"/>
            <a:ext cx="0" cy="762120"/>
          </a:xfrm>
          <a:prstGeom prst="line">
            <a:avLst/>
          </a:prstGeom>
          <a:ln w="158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622440" y="1117440"/>
            <a:ext cx="609480" cy="152640"/>
          </a:xfrm>
          <a:prstGeom prst="rightArrow">
            <a:avLst>
              <a:gd name="adj1" fmla="val 50000"/>
              <a:gd name="adj2" fmla="val 99823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1536840" y="965160"/>
            <a:ext cx="976320" cy="304920"/>
          </a:xfrm>
          <a:prstGeom prst="leftArrow">
            <a:avLst>
              <a:gd name="adj1" fmla="val 50000"/>
              <a:gd name="adj2" fmla="val 80047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10" name="Picture 12" descr=""/>
          <p:cNvPicPr/>
          <p:nvPr/>
        </p:nvPicPr>
        <p:blipFill>
          <a:blip r:embed="rId6"/>
          <a:stretch/>
        </p:blipFill>
        <p:spPr>
          <a:xfrm>
            <a:off x="3606840" y="4559400"/>
            <a:ext cx="18874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6C6C-4D17-4CFE-9922-258C0F6D1F22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evel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560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 1500 kg car moving on a flat, horizontal road negotiates a curve as shown. If the radius of the curve is 35.0 m and the coefficient of static friction between the tires and dry pavement is 0.523, find the maximum speed the car can have and still make the turn successfully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1676520" y="5562720"/>
                <a:ext cx="1523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6222960" y="3598920"/>
            <a:ext cx="2052720" cy="2484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0604a"/>
          <p:cNvPicPr/>
          <p:nvPr/>
        </p:nvPicPr>
        <p:blipFill>
          <a:blip r:embed="rId2"/>
          <a:stretch/>
        </p:blipFill>
        <p:spPr>
          <a:xfrm>
            <a:off x="5958000" y="1249200"/>
            <a:ext cx="2909880" cy="23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AF54-FDAF-4E7A-AE82-32B88E999F1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evel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force of static friction directed toward the center of the curve keeps the car moving in a circular path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1676520" y="5562720"/>
                <a:ext cx="1523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72" name="Picture 5" descr=""/>
          <p:cNvPicPr/>
          <p:nvPr/>
        </p:nvPicPr>
        <p:blipFill>
          <a:blip r:embed="rId1"/>
          <a:stretch/>
        </p:blipFill>
        <p:spPr>
          <a:xfrm>
            <a:off x="5969160" y="2989440"/>
            <a:ext cx="2278080" cy="275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3" name="Object 6"/>
              <p:cNvSpPr txBox="1"/>
              <p:nvPr/>
            </p:nvSpPr>
            <p:spPr>
              <a:xfrm>
                <a:off x="965160" y="2884320"/>
                <a:ext cx="4584600" cy="30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ma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mg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e>
                        </m:rad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BE72-F743-4A85-8EBB-DBA99E350D96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anked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257480"/>
            <a:ext cx="474516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A car moving at the designated speed can negotiate the curve. Such a ramp is usually banked, which means that the roadway is tilted toward the inside of the curve. Suppose the designated speed for the ramp is to be 13.4 m/s and the radius of the curve is 35.0 m. At what angle should the curve be banked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5140440" y="3263760"/>
            <a:ext cx="3762360" cy="2521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"/>
          <p:cNvPicPr/>
          <p:nvPr/>
        </p:nvPicPr>
        <p:blipFill>
          <a:blip r:embed="rId2"/>
          <a:stretch/>
        </p:blipFill>
        <p:spPr>
          <a:xfrm>
            <a:off x="5267160" y="1457280"/>
            <a:ext cx="327204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BF14-0E73-41CA-9816-4449DBE836C1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anked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5140440" y="3263760"/>
            <a:ext cx="3762360" cy="2521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"/>
          <p:cNvPicPr/>
          <p:nvPr/>
        </p:nvPicPr>
        <p:blipFill>
          <a:blip r:embed="rId2"/>
          <a:stretch/>
        </p:blipFill>
        <p:spPr>
          <a:xfrm>
            <a:off x="5267160" y="1457280"/>
            <a:ext cx="3272040" cy="151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3" name="Object 5"/>
              <p:cNvSpPr txBox="1"/>
              <p:nvPr/>
            </p:nvSpPr>
            <p:spPr>
              <a:xfrm>
                <a:off x="716040" y="1822320"/>
                <a:ext cx="4216320" cy="37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m/s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den>
                        </m:f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m/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4FFE-9288-4894-8B67-7B84D5FBD9D9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avitational Force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m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46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Gravitational force is a vecto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 magnitude of the gravitational force acting on an object of mass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ear the Earth’s surface is called the weight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f the objec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w = m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Direction: vertically downwar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33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bongi"/>
          <p:cNvPicPr/>
          <p:nvPr/>
        </p:nvPicPr>
        <p:blipFill>
          <a:blip r:embed="rId2"/>
          <a:stretch/>
        </p:blipFill>
        <p:spPr>
          <a:xfrm>
            <a:off x="5861160" y="3638520"/>
            <a:ext cx="273204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Line 6"/>
          <p:cNvSpPr/>
          <p:nvPr/>
        </p:nvSpPr>
        <p:spPr>
          <a:xfrm>
            <a:off x="7518240" y="4368960"/>
            <a:ext cx="0" cy="12826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1725480" y="4429080"/>
            <a:ext cx="1979640" cy="1614600"/>
          </a:xfrm>
          <a:prstGeom prst="rect">
            <a:avLst/>
          </a:prstGeom>
          <a:ln w="0">
            <a:noFill/>
          </a:ln>
        </p:spPr>
      </p:pic>
      <p:sp>
        <p:nvSpPr>
          <p:cNvPr id="118" name="Line 8"/>
          <p:cNvSpPr/>
          <p:nvPr/>
        </p:nvSpPr>
        <p:spPr>
          <a:xfrm>
            <a:off x="2705040" y="4673520"/>
            <a:ext cx="0" cy="13716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916080" y="45036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m: Mass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741840" y="5138640"/>
            <a:ext cx="18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g = 9.8 m/s</a:t>
            </a:r>
            <a:r>
              <a:rPr b="1" lang="en-US" sz="24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1"/>
              <p:cNvSpPr txBox="1"/>
              <p:nvPr/>
            </p:nvSpPr>
            <p:spPr>
              <a:xfrm>
                <a:off x="6800760" y="1911240"/>
                <a:ext cx="16495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EFE5-929F-4C64-A612-320452BB5D3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Normal Force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Force from a solid surface which keeps object from falling through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always </a:t>
            </a:r>
            <a:r>
              <a:rPr b="0" lang="en-US" sz="2800" spc="-1" strike="noStrike">
                <a:solidFill>
                  <a:srgbClr val="dc0c3e"/>
                </a:solidFill>
                <a:latin typeface="Tahoma"/>
                <a:ea typeface="宋体"/>
              </a:rPr>
              <a:t>perpendicular to the surfa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not necessary to be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m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6261120" y="2451240"/>
                <a:ext cx="8128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827600" y="1293840"/>
            <a:ext cx="3171960" cy="2787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5478480" y="4206960"/>
                <a:ext cx="1919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7"/>
              <p:cNvSpPr txBox="1"/>
              <p:nvPr/>
            </p:nvSpPr>
            <p:spPr>
              <a:xfrm>
                <a:off x="5732640" y="5365800"/>
                <a:ext cx="11556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5462640" y="4753080"/>
                <a:ext cx="2001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195E-569B-4AEE-83CB-CAA686211EC1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548240" y="1324080"/>
            <a:ext cx="4606920" cy="16444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Tension Force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17520" y="1447920"/>
            <a:ext cx="44575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A taut rope exerts forces on whatever holds its end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always </a:t>
            </a:r>
            <a:r>
              <a:rPr b="0" lang="en-US" sz="2800" spc="-1" strike="noStrike">
                <a:solidFill>
                  <a:srgbClr val="dc0c3e"/>
                </a:solidFill>
                <a:latin typeface="Tahoma"/>
                <a:ea typeface="宋体"/>
              </a:rPr>
              <a:t>along the cord (rope, cable, string ……) and away from the objec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depend on situa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5629320" y="2881440"/>
            <a:ext cx="2838240" cy="714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4708440" y="3789360"/>
            <a:ext cx="3544920" cy="2289240"/>
          </a:xfrm>
          <a:prstGeom prst="rect">
            <a:avLst/>
          </a:prstGeom>
          <a:ln w="0">
            <a:noFill/>
          </a:ln>
        </p:spPr>
      </p:pic>
      <p:sp>
        <p:nvSpPr>
          <p:cNvPr id="136" name="Line 7"/>
          <p:cNvSpPr/>
          <p:nvPr/>
        </p:nvSpPr>
        <p:spPr>
          <a:xfrm flipH="1" flipV="1">
            <a:off x="5753160" y="4140000"/>
            <a:ext cx="596880" cy="36828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5359320" y="4419360"/>
            <a:ext cx="0" cy="63972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853600" y="37749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1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837320" y="457524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7167600" y="4295880"/>
            <a:ext cx="1746000" cy="4597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1 = T = T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0FA5-7B10-471B-9E0C-AA558DB4EDE9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83920" y="1397160"/>
            <a:ext cx="789948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hen an object is in motion on a surface or through a viscous medium, there will be a resistance to the motio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.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s resistance is called the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force of fric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This is due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o the interactions between the object and its environmen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e will be concerned with two types of friction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Force of static friction: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Force of kinetic friction: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k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Direction: opposite the direction of the intended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c3e"/>
                </a:solidFill>
                <a:latin typeface="Tahoma"/>
                <a:ea typeface="宋体"/>
              </a:rPr>
              <a:t>If moving: in direction opposite the velocit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c3e"/>
                </a:solidFill>
                <a:latin typeface="Tahoma"/>
                <a:ea typeface="宋体"/>
              </a:rPr>
              <a:t>If stationary, in direction of the vector sum of other forc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Forces of Friction: </a:t>
            </a:r>
            <a:r>
              <a:rPr b="0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6757920" y="1886040"/>
            <a:ext cx="2386080" cy="2462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friction"/>
          <p:cNvPicPr/>
          <p:nvPr/>
        </p:nvPicPr>
        <p:blipFill>
          <a:blip r:embed="rId2"/>
          <a:stretch/>
        </p:blipFill>
        <p:spPr>
          <a:xfrm>
            <a:off x="5122800" y="1878120"/>
            <a:ext cx="1849680" cy="24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6D5E-E580-4363-B2FA-BF18DE5AEBA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4480" y="1359000"/>
            <a:ext cx="477504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riction is proportional to the normal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Tahoma"/>
                <a:ea typeface="宋体"/>
              </a:rPr>
              <a:t>Static friction: 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= F </a:t>
            </a:r>
            <a:r>
              <a:rPr b="0" i="1" lang="en-US" sz="2400" spc="-1" strike="noStrike">
                <a:solidFill>
                  <a:srgbClr val="dc0c3e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</a:t>
            </a: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s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Tahoma"/>
                <a:ea typeface="宋体"/>
              </a:rPr>
              <a:t>Kinetic friction: 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= </a:t>
            </a: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k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 is the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coefficient of fric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coefficients of friction are nearly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dependent of the area of contact (why?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Forces of Friction: </a:t>
            </a:r>
            <a:r>
              <a:rPr b="0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Magnitu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9" name="Picture 4" descr="05T1"/>
          <p:cNvPicPr/>
          <p:nvPr/>
        </p:nvPicPr>
        <p:blipFill>
          <a:blip r:embed="rId1"/>
          <a:stretch/>
        </p:blipFill>
        <p:spPr>
          <a:xfrm>
            <a:off x="4767120" y="1380960"/>
            <a:ext cx="4351320" cy="41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7810-3992-4280-AD9C-C60C99C7EF71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tatic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tic friction acts to keep the object from mov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ncreases, so do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decreases, so do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ƒ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Remember, the equality holds when the surfaces are on the verge of slipping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1165320" y="2163600"/>
          <a:ext cx="23796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163600"/>
                    <a:ext cx="2379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5"/>
          <p:cNvGraphicFramePr/>
          <p:nvPr/>
        </p:nvGraphicFramePr>
        <p:xfrm>
          <a:off x="1181160" y="2557440"/>
          <a:ext cx="23796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1160" y="2557440"/>
                    <a:ext cx="2379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3962520" y="2149560"/>
          <a:ext cx="37944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149560"/>
                    <a:ext cx="3794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"/>
          <p:cNvGraphicFramePr/>
          <p:nvPr/>
        </p:nvGraphicFramePr>
        <p:xfrm>
          <a:off x="4013280" y="2581200"/>
          <a:ext cx="35712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13280" y="2581200"/>
                    <a:ext cx="357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8" descr="0516a"/>
          <p:cNvPicPr/>
          <p:nvPr/>
        </p:nvPicPr>
        <p:blipFill>
          <a:blip r:embed="rId9"/>
          <a:stretch/>
        </p:blipFill>
        <p:spPr>
          <a:xfrm>
            <a:off x="5562720" y="1608120"/>
            <a:ext cx="2889000" cy="372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23:38:32Z</dcterms:created>
  <dc:creator>Gary</dc:creator>
  <dc:description/>
  <dc:language>en-US</dc:language>
  <cp:lastModifiedBy>Asus</cp:lastModifiedBy>
  <dcterms:modified xsi:type="dcterms:W3CDTF">2018-03-09T16:21:03Z</dcterms:modified>
  <cp:revision>346</cp:revision>
  <dc:subject/>
  <dc:title>PowerPoint Presentation</dc:title>
</cp:coreProperties>
</file>